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7728-080B-44CA-9E78-F3234497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711F-4973-47E7-8052-26CC732B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22E-DC45-4C97-9E1C-D64B095D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6446-0FF7-424B-A06C-E0F14BAD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576A-B2E3-480B-9821-AAF26ABA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037D-E3EB-46B4-BD3A-091BCF47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4544-770C-4230-874E-7151D955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897C-116C-487F-AFAE-9DCC45F3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AACE-DF0C-4960-8ACF-00B7E5F1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126C-FD0F-4D66-A47C-F40AFC46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CE7C-5601-4B28-94C7-854C3033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92A-3019-40C7-AB6D-AD28578F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63D4-BFF3-4EF4-A96A-46341A74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77CD-9A0A-428E-AF7F-4EF9F978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7277-F1F2-4370-BA26-5B5D90B5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7102-E3AB-4BB1-8F3F-7D1156EA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405E-1B36-4AC4-BE47-7BAB08215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940F-E714-496F-90C0-043CBEEC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CD0-7E9B-4B72-88AD-DA1FAD01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DD36-D9F6-4CC4-A84D-07D4824A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2C30-4DF3-4A55-A5C6-819EB671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4BCE-D2A1-469D-B1DB-EE176DEC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8F33-2C71-4D4B-9FB9-AD85EBDE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9A5-EA05-4838-9A55-97C4F920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95A55-17B6-43FB-84BF-4CA5C65749B7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63D24-410A-4681-AE87-3169377BCD8C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81D537-FC60-4C9B-A833-D337F4DD9756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146860-2BE7-4999-8AE0-6E108E392502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l Phyla Cha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Respiration</a:t>
            </a:r>
            <a:br>
              <a:rPr sz="3700"/>
            </a:b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ffu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ext Placeholder 2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4343400" cy="5105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257800" y="838080"/>
            <a:ext cx="3048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tyhelminthes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(flatworms)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5" name="Text Placeholder 2" descr=""/>
          <p:cNvPicPr/>
          <p:nvPr/>
        </p:nvPicPr>
        <p:blipFill>
          <a:blip r:embed="rId2"/>
          <a:stretch/>
        </p:blipFill>
        <p:spPr>
          <a:xfrm>
            <a:off x="838080" y="1752480"/>
            <a:ext cx="7753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2c7c9f"/>
                </a:solidFill>
                <a:uFillTx/>
                <a:latin typeface="News Gothic MT"/>
              </a:rPr>
              <a:t>Miscellaneous:</a:t>
            </a: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-Symmetry       -Body cavity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-Number of germ cell layer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ilateral symmetr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coelom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3 germ cell lay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ody Support/Movemen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9000" y="1980720"/>
            <a:ext cx="8042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rue muscle tissue – longitudinal muscl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rvous Contro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imitive brain-like ganglia (nerve clusters) and ventral nerve cord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produ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2057040"/>
            <a:ext cx="804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sexual: fragmentation; regener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---------------------------------------------------------------------------------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xual: hermaphrodi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iges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20570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uth, pharynx, &amp; gastrovascular cavit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                          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1 body opening = mouth &amp; anu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ircu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n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cre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lame cells (sweep waste out of body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00:17:18Z</dcterms:created>
  <dc:creator>Keith or Sherri Holmgren</dc:creator>
  <dc:description/>
  <dc:language>en-US</dc:language>
  <cp:lastModifiedBy>NHS NPS</cp:lastModifiedBy>
  <dcterms:modified xsi:type="dcterms:W3CDTF">2012-05-15T13:22:13Z</dcterms:modified>
  <cp:revision>4</cp:revision>
  <dc:subject/>
  <dc:title>Animal Phyla Chart</dc:title>
</cp:coreProperties>
</file>